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D655D-9B53-4C14-BDA1-28200ED26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OOD THING BECAUSE YOU DO NOT WANT HAIR TO GROW ON YOUR TONGUE OR FINGERNAILS ON YOUR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TOUCHED ON POLYGENIC TRATIS AND THOSE WITH GENETIC AND EVIRONMENT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ARE GOING TO LOOK A BIT AT HOW DOES A CELL DECIDE WHAT KIND OF CELL IT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EGULATES WHAT GENES WILL BE TURNED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OPERATOR WAS THE PLAC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ATED REPRESSOR WOULD BIND TO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TRYPTOPHAN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C Z GENE THE REPR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S ON THE DNA BETWEEN THE PROMOTOR SITE AND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ES NOT ALLOW THE POLYERASE TO MOVE D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MOLEUCLE AND TRANSCRIBE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REGULATE THE PRODUCTION OF B GALACTOSIDASE BY USING A REGULATORY PROTEIN CALLED A RE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RESSOR BINDS TO THE LAC Z GENE AT A SITE BETWEEN THE PROMOTER AND THE START OF THE CODING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TE THE REPRESSOR BINDS TO IS CALLED THE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REPRESSOR PROTEIN BINDS TO THE OPERATOR REGION IT BLOCKS THE POLYMERASE FROM TRANSCRIBING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REPRESSOR PROTEIN BINDS TO THE OPERAT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LOCKS THE POLYMERASE FROM TRANSCRIBING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GALACTOSIDASE IS CALLED AN INDUCIBLE ENZYME BECAUSE IT IS MADE IN RESPONSE TO A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THERE IS LACTOSE IN THE MEDIUM IT IS TAKEN UP BY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 COLI CELL TAKES UP LACTOSE THE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ACTIVATE THE REPRESSOR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IT CAN NOT BIND TO THE OPERAT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RNA POLYMERASE CAN BIND TO THE PROMOTER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OVE DOWN AND TRANSCRIBE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GENE IS TRANSCRIBED IT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TA GALACTOSIDAS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E AND MONOD PROPOSED THIS MECHANISM IN 19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PENT THE NEXT 6 YEARS TRYING TO ISO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USIVE REPRESSOR MOLECULE FROM E CO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PROVE THEI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EVER F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7 GILBER AND MULLER FINALLY ISOLATED REPRESSO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NGLE E COLI ONLY HAS ABOUT 5 - 10 MOLECULES OF LAC RE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 OPERON REGULATED SYNTHESIS OF INDUCIBLE 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ACTOSE IS PRESENT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NACTIVATES THE REPRESSOR SO THE GENE CAN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AND MAKE THE ENZYME THAT BREAKS DOWN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GALACTOSIDASE IS AN INDUCIBLE ENZY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MADE IN RESPONSE TO THE PRESENCE OF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RN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 WHY WE SPENT SO MUCH TIME ON HOW PROTEINS ARE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HE INSULIN GENE IN ALL YOUR CELLS BUT IT IS ONLY EXPRESSED OR TRANSCRIBED BY CELLS IN THE PA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Y SKIN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D4E1E-EF3A-42E7-8A6C-918414A2F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LICING EVENTS OCCUR DURING DIFFERENT STAGES OF DEVELOPMENT  OR IN DIFFERE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GENE AND ITS TRANSC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TRANSCIRPTION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FOR THE CONTROL OF GENE EXPRESSION IN EUKARYOT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E C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like to 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EAT YOU NEED ENZYMES TO BREAK DOWN THE FOOD YOU 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ENZYME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EAK D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GLUCOSE AND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LUCOSE AND LACTO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B10D6-B37D-4E7F-A0E3-F3C1D71B2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CHICKEN MAC NUGGETS AND A MILKSHAKE YOUR ECOLI WILL BE VERY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F UP ALL THE AA IN TRYTOP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LOOK AT HOW THEY D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F0271-7DEB-45B4-AB77-AFF71B1A7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CONTROL  WHEN TO DO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NOT DO THIS IF TRYPTOPHAN IS PRESENT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BE A WASTE TO DO IT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61C22-80AC-42C5-BAD0-95614884B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NVIRONMENT LACKS TRY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TO ACTIVATE THE REPR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RNA POLYMERASE BINDS TO THE PROMOTER REGION AND MAKES T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YPTOPHAN IS PRESENT IN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INDS TO THE REPRESSOR WHICH IS THEN ACTIV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N BIND TO THE OPERATOR REGION AND BL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CRIPTION OF THE TRP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TRYP GENE CODES FOR THE SYNTHESIS OF TRYPTOP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BDA-CD41-4185-BF66-097D4A30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54C-EAA4-4122-B354-4737FA0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D2-A7B3-42AD-8293-B32F322D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8B1-E770-4434-BC83-7295DA89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65B-065A-497C-83DD-BA9FAD6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B7BD-8A46-461F-A9EB-13F8CFE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5E33-6217-4CD5-B742-519BB86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7F45-A223-469C-BC1A-F9E82AB0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A1E6-D2DF-4C15-81DC-996112FD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7ED-14F9-4FF6-AFF9-94C6DC6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9EA-5631-4A9B-9040-63B68E0B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3EA-C953-4B26-964A-39B3A8F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68F-5612-4E73-9179-6088853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F40E-01EF-42E2-AE74-998FC64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A1C1-49DD-4C51-A5B6-A82CC40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7E6-74C7-453C-890E-C1E9473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4C1-A4AB-4EE8-8740-E8BA60F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037D-11F0-48E5-A0F3-F9A18AC2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881F-CF72-461B-A2E0-D8E2358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71A7-C05C-40B0-B166-2B4405B0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004D-597E-4222-9897-B6910F5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55EB-8A98-4A03-82C5-3E78790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40B-794A-44CA-A1D2-E1EE8C4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74D6-CE57-4CAA-B8DF-6399BE78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4D34-FC6A-4E1E-85D3-8772612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0EBB-97B4-400E-9695-3CD5D85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B687-FB63-4EEE-B097-A996891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AAAC-194E-4F23-AA40-B17BD82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B411-454A-4DC1-8653-0F458902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E733-42CA-43D0-B6CE-5002F18A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C25-0CF7-417A-8C3C-35EFE1E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9C0-7908-4F0A-BAEF-5A133914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B83-108F-457C-B395-EADCF706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372-4BC6-4BA1-992E-8F8DF88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18C-CB76-4CE7-9A8A-8AC96F5F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815-1400-48C0-A497-CC7AACA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FB53-4D1C-4F9D-9A17-BAE9B9F328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CC1-330A-4DC0-817D-C11C41A2A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4085-2211-4B03-8D04-6C82CCBDB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ly every cell in your body contains a complete set of ge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they are not all turned on in every tiss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ell in your body expresses only a small subset of genes at any ti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development different cells express different sets of genes in a precisely regulated fash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acteria only need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ta galactosid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f there is lactose in the environment to dige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no point in making the enzyme if there is no lactose sugar to break dow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combination of the promoter and the DNA that regulate when a gene will be transcrib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combination of a promoter and a gene is called an</a:t>
            </a: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PER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peron is a cluster of genes encoding related enzymes that are regulated togeth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peron consists of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A promoter site where RNA polyerase binds and begins transcribing the mess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A region that makes a repress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ressor sits on the DNA at a spot between the promoter and the gene to be transcrib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is site is called the operat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11783" t="62870" r="3923" b="60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egulate the production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ta Galactocid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y using a regulatory protein called a </a:t>
            </a:r>
            <a:r>
              <a:rPr b="1" lang="en-US" sz="3200" spc="-1" strike="noStrike" u="sng">
                <a:solidFill>
                  <a:srgbClr val="ccff66"/>
                </a:solidFill>
                <a:uFillTx/>
                <a:latin typeface="Arial"/>
              </a:rPr>
              <a:t>repress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pressor binds to the lac Z gene at a site between the promotor and the start of the coding sequ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ite the repressor binds to is called the operat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10806" t="15909" r="12742" b="29556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mally the repressor sits on the operator repressing transcription of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presence of lactose the repressor binds to the sugar and this allows the polymerase to move down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is results in the production of beta galactosidase which breaks down the suga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en there is no sugar left the repressor will return to its spot on the chromosome and stop the transcription of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6883" t="15909" r="4900" b="128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40384" t="53669" r="12404" b="27158"/>
          <a:stretch/>
        </p:blipFill>
        <p:spPr>
          <a:xfrm rot="21573000">
            <a:off x="-1440" y="89388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regulation occurs at the level of transcription or production of mR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given cell transcribes only a specific set of genes and not oth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ulin is made by pancreatic cel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eukaryotic organisms like ourselves there are several methods of regulating protein produc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regulatory sequences are found upstream from the promo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s are controlled by regulatory elements in the promoter region that act like one/off switches or dimmer switch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 transcription factors bind to these regulatory elements and regulate transcrip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ory elements may be tissue specific and will activate their gene only in one kind of tiss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times the expression of a gene requires the function of two or more different regulatory elem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ukaryotic DNA differs from prokaryotic DNA it that the coding sequences along the gene are interspersed with noncoding 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ding sequences are calle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non coding sequences are call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fter the initial transcript is produced the introns are spliced out to form the completed message ready for transl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trons can be very large and numerous, so some genes are much bigger than the final processed mR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MD gene is about 2.5 million base pairs lo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s more than 70 intr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inal mRNA is only about 17,000 base pairs lo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ff66"/>
                </a:solidFill>
                <a:uFillTx/>
                <a:latin typeface="Arial"/>
              </a:rPr>
              <a:t>RNA Splicing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6680" y="1109160"/>
            <a:ext cx="7697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Provides a point where the expression of a gene can be controlled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Exons can be spliced together in different way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This allows a variety of different polypeptides to be assembled from the same gen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Alternate splicing is common in insects and vertebrates, where 2 or 3 different proteins are produced from one gen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15702" t="5304" r="23525" b="380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27466" t="9846" r="26466" b="6077"/>
          <a:stretch/>
        </p:blipFill>
        <p:spPr>
          <a:xfrm>
            <a:off x="182880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CENTRAL DOGM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tic information always goes from DNA to RNA to prote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regulation has been well studied in E. co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a bacterial cell encounters a potential food source it will manufacture the enzymes necessary to metabolize that food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c893e"/>
                </a:solidFill>
                <a:uFillTx/>
                <a:latin typeface="Arial"/>
              </a:rPr>
              <a:t>Gene Regulation</a:t>
            </a:r>
            <a:endParaRPr b="0" lang="en-US" sz="3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7040" y="1109160"/>
            <a:ext cx="75916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addition to sugars like glucose and lactose E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. coli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s also require amino acids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e essential aa is tryptophan.  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3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E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li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is swimming in tryptophan (milk &amp; poultry) it will absorb the amino acids from the media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4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tryptophan is not present in the media then the cell must manufacture its’ own amino acids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ccff66"/>
                </a:solidFill>
                <a:uFillTx/>
                <a:latin typeface="Arial"/>
              </a:rPr>
              <a:t>Trp</a:t>
            </a:r>
            <a:r>
              <a:rPr b="1" lang="en-US" sz="3300" spc="-1" strike="noStrike" u="sng">
                <a:solidFill>
                  <a:srgbClr val="ccff66"/>
                </a:solidFill>
                <a:uFillTx/>
                <a:latin typeface="Arial"/>
              </a:rPr>
              <a:t> Operon</a:t>
            </a:r>
            <a:endParaRPr b="0" lang="en-US" sz="3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728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ff66"/>
                </a:solidFill>
                <a:latin typeface="Arial"/>
              </a:rPr>
              <a:t>E. coli</a:t>
            </a: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 uses several proteins encoded by a cluster of 5 genes to manufacture the amino acid tryptophan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All 5 genes are transcribed together as a unit called an operon, which produces a single long piece of mRNA for all the gene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RNA polymerase binds to a promoter located at the beginning of the first gene and proceeds down the DNA transcribing the genes in sequenc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8352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ig. 16.6</a:t>
            </a:r>
            <a:endParaRPr b="0" lang="en-US" sz="13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08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 addition to amino acids,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cells also metabolize sugars in their environmen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 1959 Jacques Monod and Fracois Jacob looked at the ability of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E. coli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ells to digest the sugar lactos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the presence of the sugar lactose,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akes an enzyme called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breaks down the sugar lactose so th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can digest it for f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is the LAC Z gene in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that codes for the enzym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005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ryptophane gene is turned on when there is no tryptophan in the med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at is when the cell wants to make its’ own tryptoph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cells can not make the sugar lact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can only have lactose when it is present in their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n they turn on genes to beak down lact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20:21:05Z</dcterms:created>
  <dc:creator>Rob Walkinshaw</dc:creator>
  <dc:description/>
  <dc:language>en-US</dc:language>
  <cp:lastModifiedBy>Dennis Passovoy</cp:lastModifiedBy>
  <cp:lastPrinted>2006-02-18T21:49:14Z</cp:lastPrinted>
  <dcterms:modified xsi:type="dcterms:W3CDTF">2007-01-10T03:11:27Z</dcterms:modified>
  <cp:revision>58</cp:revision>
  <dc:subject/>
  <dc:title>GENE REGULATION</dc:title>
</cp:coreProperties>
</file>